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B09C-2563-4A3E-8BEE-8B50B355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09C8-F782-443D-9C06-99D7F46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F039-BAD7-4CD7-860E-C5E4135A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5FED-8377-46B0-8B6F-D4F4D193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DBDF-EF17-4470-8F06-202EBEED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FA0F-B398-4B84-A36A-381200C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862A-ECFB-40F3-9C29-59C36D24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FA57-C40B-47B6-88FB-C4605F4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F09A-BA3A-4763-A7A6-64F67967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22B0-A4F5-4891-894E-501AC64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7186-716F-4A2B-A5E6-D5DCC22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254D-4366-4498-8465-82B6B6D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2EB1-B2FF-4D3B-8003-AF8BF7EFFD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s56.radikal.ru/i153/0908/4e/d14b76adf10d.jpg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нтропогенное воздействие на окружающую среду</a:t>
            </a:r>
            <a:br>
              <a:rPr sz="7200"/>
            </a:b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полнить таблиц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1752480"/>
          <a:ext cx="8839440" cy="3048120"/>
        </p:xfrm>
        <a:graphic>
          <a:graphicData uri="http://schemas.openxmlformats.org/drawingml/2006/table">
            <a:tbl>
              <a:tblPr/>
              <a:tblGrid>
                <a:gridCol w="1352520"/>
                <a:gridCol w="3532320"/>
                <a:gridCol w="3954600"/>
              </a:tblGrid>
              <a:tr h="16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хозяйственной нагруз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кологические последств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ап присваивающего хозяй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20-30 тыс. лет назад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2" descr="TimeRime.com - Home"/>
          <p:cNvPicPr/>
          <p:nvPr/>
        </p:nvPicPr>
        <p:blipFill>
          <a:blip r:embed="rId1"/>
          <a:stretch/>
        </p:blipFill>
        <p:spPr>
          <a:xfrm>
            <a:off x="3809880" y="1809720"/>
            <a:ext cx="5229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Первобытное общество - Картинка 14226/65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ирательство, охота и рыболовство; усовершенствование орудий тру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способление человека к природе, практически без нарушения ее целостности, борьба за охотничьи угодья, уничтожение живот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5" descr="Позволяют ли Ваши потребности преуспеть в бизнесе?"/>
          <p:cNvPicPr/>
          <p:nvPr/>
        </p:nvPicPr>
        <p:blipFill>
          <a:blip r:embed="rId1"/>
          <a:stretch/>
        </p:blipFill>
        <p:spPr>
          <a:xfrm>
            <a:off x="3581280" y="1504800"/>
            <a:ext cx="57150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евние цивилизации – этап сельскохозяйственной революции; переход от присваивающего хозяйства к производящему (6-8 тыс.л.н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" name="Picture 5" descr="Стереотипы мышления. Часть 3 SVLV - Информационный портал"/>
          <p:cNvPicPr/>
          <p:nvPr/>
        </p:nvPicPr>
        <p:blipFill>
          <a:blip r:embed="rId1"/>
          <a:stretch/>
        </p:blipFill>
        <p:spPr>
          <a:xfrm>
            <a:off x="3962520" y="256068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лывание земель, развитие земледелия и скотоводства. Использование древесины как основного источника                                                                         энергии и                                                                      строительного                                                                  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http://deepbrazil.com/wp-content/uploads/2010/11/Rugendas1.jpg"/>
          <p:cNvPicPr/>
          <p:nvPr/>
        </p:nvPicPr>
        <p:blipFill>
          <a:blip r:embed="rId1"/>
          <a:srcRect l="1841" t="-1604" r="-1836" b="6208"/>
          <a:stretch/>
        </p:blipFill>
        <p:spPr>
          <a:xfrm>
            <a:off x="2476440" y="2228760"/>
            <a:ext cx="66675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бое преобразование основных ландшафтов; освоение поливных и богарных земель; сокращение лесных площа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5" descr="Рабский труд и нищенская зарплата... &quot; Net23.INFO - Локальный портал сети FTTB Билайн"/>
          <p:cNvPicPr/>
          <p:nvPr/>
        </p:nvPicPr>
        <p:blipFill>
          <a:blip r:embed="rId1"/>
          <a:stretch/>
        </p:blipFill>
        <p:spPr>
          <a:xfrm>
            <a:off x="3429000" y="225756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12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еодальное общество эпохи средневековья – появление частной собственности; разделение общества на классы; этап расширения границ Ойкумены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" name="Picture 5" descr="Фотография Франции. Каркассон. Каркассон - живое Средневековье"/>
          <p:cNvPicPr/>
          <p:nvPr/>
        </p:nvPicPr>
        <p:blipFill>
          <a:blip r:embed="rId1"/>
          <a:srcRect l="0" t="3705" r="0" b="5388"/>
          <a:stretch/>
        </p:blipFill>
        <p:spPr>
          <a:xfrm>
            <a:off x="-1440" y="2832120"/>
            <a:ext cx="9145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еличение численности населения; совершенствование сельского хозяйства; вырубка лесов, развитие ремесел, кораблестроение; добыча минеральных ресурсов; переход к использованию вторичных природных ресур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5" descr="Корабль в ночи"/>
          <p:cNvPicPr/>
          <p:nvPr/>
        </p:nvPicPr>
        <p:blipFill>
          <a:blip r:embed="rId1"/>
          <a:stretch/>
        </p:blipFill>
        <p:spPr>
          <a:xfrm>
            <a:off x="2227320" y="2971800"/>
            <a:ext cx="6916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6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ландшафтов, изменение естественного растительного покрова, иссушение болот, строительство оросительных каналов; резкое увеличение нагрузки на окружающую природную сре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Picture 5" descr="Приручение животных - Картинка 15034/22"/>
          <p:cNvPicPr/>
          <p:nvPr/>
        </p:nvPicPr>
        <p:blipFill>
          <a:blip r:embed="rId1"/>
          <a:stretch/>
        </p:blipFill>
        <p:spPr>
          <a:xfrm>
            <a:off x="2438280" y="3046320"/>
            <a:ext cx="67201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ЕРВЫЙ ПУНКТ ЛЕКЦИИ ПРОЧИТАТЬ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ВТОРОМУ ПУНКТУ ЗАПОЛНИТЬ ТАБЛИЦУ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ТРЕТЬЕМУ ПУНКТУ ВЫПИСАТЬ ОПРЕДЕЛЕНИЯ (СЛАЙДЫ 32-35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зарождения капиталистических отношений, колониальных захватов, великие географические открытия; завоевания и заселения новых земель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Великие географические открытия. Великие географические открытия европейских путешественников конца 15-в. - середины 17 в. явили"/>
          <p:cNvPicPr/>
          <p:nvPr/>
        </p:nvPicPr>
        <p:blipFill>
          <a:blip r:embed="rId1"/>
          <a:srcRect l="0" t="0" r="25668" b="0"/>
          <a:stretch/>
        </p:blipFill>
        <p:spPr>
          <a:xfrm>
            <a:off x="0" y="380988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фабричного производства, мануфактур; расширение посевных площадей, сведение лесов под пашни для нужд строительства, кораблестро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Россия Словарь по истории России"/>
          <p:cNvPicPr/>
          <p:nvPr/>
        </p:nvPicPr>
        <p:blipFill>
          <a:blip r:embed="rId1"/>
          <a:stretch/>
        </p:blipFill>
        <p:spPr>
          <a:xfrm>
            <a:off x="3657600" y="2981160"/>
            <a:ext cx="55166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ликое переселение народов, освоение новых земель; растущее потребление в использовании минеральных, лесных, водных ресурсов, расширении посевных площадей; рост городов; загрязнение воздушного простран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Красное место - Крепостное право в Енисейской губернии"/>
          <p:cNvPicPr/>
          <p:nvPr/>
        </p:nvPicPr>
        <p:blipFill>
          <a:blip r:embed="rId1"/>
          <a:stretch/>
        </p:blipFill>
        <p:spPr>
          <a:xfrm>
            <a:off x="3048120" y="3446640"/>
            <a:ext cx="6019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ия капитализма; эпоха социальных революций, колониальных войн и грабежа колоний; эпоха промышленной революции (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а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Развития капитализма в России &quot; Буквы.Ру Научно-популярный портал"/>
          <p:cNvPicPr/>
          <p:nvPr/>
        </p:nvPicPr>
        <p:blipFill>
          <a:blip r:embed="rId1"/>
          <a:stretch/>
        </p:blipFill>
        <p:spPr>
          <a:xfrm>
            <a:off x="1371600" y="2602080"/>
            <a:ext cx="775800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ущие потребности в минеральных ресурсах; рост фабрично-заводской промышленности, формирование промышленных центров, ускоренная урбанизация; расширение посевных площадей, совершенствование агроидустр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Всемирная история. Том 7 - Книги. Различные темы"/>
          <p:cNvPicPr/>
          <p:nvPr/>
        </p:nvPicPr>
        <p:blipFill>
          <a:blip r:embed="rId1"/>
          <a:stretch/>
        </p:blipFill>
        <p:spPr>
          <a:xfrm>
            <a:off x="3581280" y="3344760"/>
            <a:ext cx="5562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05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естественных ландшафтов, постепенное превращение их в природно-антропогенные; замена первичного растительного покрова вторичным; возросшие масштабы воздействия на атмосферу, гидросферу, литосферу, биосферу; рост масштаба потребления природных ресурсов и                                            загрязнения                                                              окружающей сре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Война в США - Независимость США - Картинки по истории"/>
          <p:cNvPicPr/>
          <p:nvPr/>
        </p:nvPicPr>
        <p:blipFill>
          <a:blip r:embed="rId1"/>
          <a:stretch/>
        </p:blipFill>
        <p:spPr>
          <a:xfrm>
            <a:off x="3611520" y="3505320"/>
            <a:ext cx="554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ого индустриального общества; ресурсные и национальные конфликты; современный этап НТР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фото: Индустриальный пейзаж II фотограф: Антон Устименко WWW.PHOTODOM.COM"/>
          <p:cNvPicPr/>
          <p:nvPr/>
        </p:nvPicPr>
        <p:blipFill>
          <a:blip r:embed="rId1"/>
          <a:stretch/>
        </p:blipFill>
        <p:spPr>
          <a:xfrm>
            <a:off x="914400" y="2682720"/>
            <a:ext cx="7162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генез, конкретные изменения в технической базе производства; резкие сдвиги в системе «общество - природная среда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Сборщик RSS-лент Tebe-i-Vsem.ru"/>
          <p:cNvPicPr/>
          <p:nvPr/>
        </p:nvPicPr>
        <p:blipFill>
          <a:blip r:embed="rId1"/>
          <a:stretch/>
        </p:blipFill>
        <p:spPr>
          <a:xfrm>
            <a:off x="2077920" y="2971800"/>
            <a:ext cx="7066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игантские масштабы воздействия человеческого общества на все компоненты окружающей среды; использование ресурсов; глобальное загрязнение планеты; угроза глобального                                                  экологического                                                                  кризиса;                                                                        растущая угроза для                                                       жизни и здоровья                                                           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&quot;Металл Профиль&quot; разработал первые в России стены для промышленных объектов - Пресс-релиз - Глобальный информационно-аналитическ"/>
          <p:cNvPicPr/>
          <p:nvPr/>
        </p:nvPicPr>
        <p:blipFill>
          <a:blip r:embed="rId1"/>
          <a:stretch/>
        </p:blipFill>
        <p:spPr>
          <a:xfrm>
            <a:off x="3581280" y="3003480"/>
            <a:ext cx="556272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Антропогенное воздействие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Антропогенное воздействие на экологическую обстановку KM.RU"/>
          <p:cNvPicPr/>
          <p:nvPr/>
        </p:nvPicPr>
        <p:blipFill>
          <a:blip r:embed="rId1"/>
          <a:stretch/>
        </p:blipFill>
        <p:spPr>
          <a:xfrm>
            <a:off x="1828800" y="3333600"/>
            <a:ext cx="5638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5e5ff"/>
                </a:solidFill>
                <a:latin typeface="Garamond"/>
              </a:rPr>
              <a:t>План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Природа и общество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Этапы взаимодействия общества и природы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Антропогенное воздействие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" name="Picture 5" descr="Накопление жизненной энергии. Барри Лонг о энергии Gnosis - мир вокруг нас. Новости планеты"/>
          <p:cNvPicPr/>
          <p:nvPr/>
        </p:nvPicPr>
        <p:blipFill>
          <a:blip r:embed="rId1"/>
          <a:stretch/>
        </p:blipFill>
        <p:spPr>
          <a:xfrm>
            <a:off x="3657600" y="2982960"/>
            <a:ext cx="53722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антропогенным воздействиям относят те виды изменений в окружающей среде, которые вызваны жизнью и деятельностью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Экология промышленности"/>
          <p:cNvPicPr/>
          <p:nvPr/>
        </p:nvPicPr>
        <p:blipFill>
          <a:blip r:embed="rId1"/>
          <a:stretch/>
        </p:blipFill>
        <p:spPr>
          <a:xfrm>
            <a:off x="762120" y="1749600"/>
            <a:ext cx="8381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йствие человека с окружающей природной средой протекает в различных формах и с различной интенсивностью на всех этапах исторического развития . воздействие человека на природу можно классифицировать различным образ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о может быть: прямое и косвенное; длительное и кратковременное; площадное и точечное; глубинное и поверхностное; статистическое и динамическое; глобальное, региональное и локальное; механическое, физическое, химическое и биологическое и 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523880"/>
          <a:ext cx="8991720" cy="5419800"/>
        </p:xfrm>
        <a:graphic>
          <a:graphicData uri="http://schemas.openxmlformats.org/drawingml/2006/table">
            <a:tbl>
              <a:tblPr/>
              <a:tblGrid>
                <a:gridCol w="2133720"/>
                <a:gridCol w="2360520"/>
                <a:gridCol w="2249640"/>
                <a:gridCol w="2247840"/>
              </a:tblGrid>
              <a:tr h="335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миссио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ново -параметр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андшафтно-деструктив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</a:tr>
              <a:tr h="536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брос загрязняющих природных веществ в воздух, в воду, в почву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вое, радиоактивное, шумовое, ионизирующее загрязнение (оцениваются измерением их параметров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осознанным, когда человек ожидает определенный результат своей деятельности. Т.Е. приспособление среды к своим потребностям ее «улучшение»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неосознанным, когда человек не предполагет последствий своей деятельности. Они чаще проявляются как побочные эффек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правлен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600200"/>
          <a:ext cx="8763120" cy="51213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621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ъятие веществ и энергии из природной среды (добыча полезных ископаемых, вырубка лесо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несение в природную среду веществ и энергии, ранее не существовавших в природе, либо существовавших в незначительных количествах (отход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образование природных объек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мелиорация земель, создание искусственных водоемов, осушение болот)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храна используемых природных объектов и окружающей среды в цел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676520"/>
          <a:ext cx="8991720" cy="495288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736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уш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билизирующ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руктив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  <a:tr h="48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ведущая к утрате природной средой своих полезных человеку качеств (потеря плодородия почв в результате сведения лесов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замедление деструкций природной среды в результате, как хозяйственной деятельности человека, так и природных процессов (почвозащитные мероприят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восстановление природной среды, нарушенной в результате хозяйственной деятельности, и человека или природных процессов (восстановление редких видов животных и растен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рм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752480"/>
          <a:ext cx="8686800" cy="480060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труктуры земной поверхности (распашка, горнодобыча, вырубк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руговорота и баланса веществ (добыча полезных ископаемы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энергетического баланса (теплообмен, потепление климат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остава животного и растительного мира (истребле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371600"/>
          <a:ext cx="8839440" cy="5334120"/>
        </p:xfrm>
        <a:graphic>
          <a:graphicData uri="http://schemas.openxmlformats.org/drawingml/2006/table">
            <a:tbl>
              <a:tblPr/>
              <a:tblGrid>
                <a:gridCol w="4267440"/>
                <a:gridCol w="4572000"/>
              </a:tblGrid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» воздейств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рицательные»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0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производство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становление запасов вод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полезащитное лесоразведе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рекультивация земел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истощение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деградация природных ландшафт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сокращение многообразия вид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ухудшение здоровья человека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Природа и общество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7" name="Picture 4" descr="Природа делает нас лучше и щедрее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Как нарисовать красивый закат Учитесь рисовать"/>
          <p:cNvPicPr/>
          <p:nvPr/>
        </p:nvPicPr>
        <p:blipFill>
          <a:blip r:embed="rId1"/>
          <a:srcRect l="0" t="0" r="9700" b="0"/>
          <a:stretch/>
        </p:blipFill>
        <p:spPr>
          <a:xfrm>
            <a:off x="-76320" y="63360"/>
            <a:ext cx="9220320" cy="6807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39621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 природой понимают все то, что существует во вселенной, т.е. органический и неорганический мир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еловеческое обществ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окупность людей, объединенных исторически обусловленными социально политико-экономическими формами совместной жизни и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5" descr="Сколько людей на планете"/>
          <p:cNvPicPr/>
          <p:nvPr/>
        </p:nvPicPr>
        <p:blipFill>
          <a:blip r:embed="rId1"/>
          <a:stretch/>
        </p:blipFill>
        <p:spPr>
          <a:xfrm>
            <a:off x="3505320" y="2978280"/>
            <a:ext cx="56386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Панорама Новости Армении"/>
          <p:cNvPicPr/>
          <p:nvPr/>
        </p:nvPicPr>
        <p:blipFill>
          <a:blip r:embed="rId1"/>
          <a:stretch/>
        </p:blipFill>
        <p:spPr>
          <a:xfrm>
            <a:off x="2362320" y="2097000"/>
            <a:ext cx="6667560" cy="4781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стем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Человек – окружающая среда» -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очень сложная поликомпонентная система, включающая человека (организм, личность, общество) и окружающую среду в историческом процессе их взаимодейств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 природой и обществом существуют сложные взаимодействия, обмен веществом и энерги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Домбай турфирмы воронежа,загранпаспорт,оформление загранпаспортов, туристические фирмы воронежа, турагентс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Виденье природы от фотографа Hougaard Malan &quot; NIFIGA-SEBE.RU - фотографии, клипарты, вектор, картинки и шаблоны"/>
          <p:cNvPicPr/>
          <p:nvPr/>
        </p:nvPicPr>
        <p:blipFill>
          <a:blip r:embed="rId1"/>
          <a:srcRect l="0" t="0" r="1428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Этапы взаимодействия общества и приро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34:2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